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9C4-F1CF-4E6E-B458-E3EB8C01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94A-B032-4C07-9643-5EBF6FCF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924-F134-436D-A038-DA008020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E25-77CD-48FB-B0D6-19C4CC37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B6B-2C1C-4CBB-90D1-B8DECBCB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179-12E6-4B82-8C28-1C11726C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9A1-A8D9-4CE1-B1D4-629AA262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06D-E71C-4DE9-B6D4-7F250011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708-C296-4C15-BEEA-86777E61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5D4-2C74-4533-A313-CEA22DB3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75C-9CCA-4BDD-8D10-EE3B2140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F43-02E4-4DE2-848C-F671C79E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1648-86A2-47EC-8699-14AEC6CD2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image" Target="../media/image2.png"/><Relationship Id="rId5" Type="http://schemas.openxmlformats.org/officeDocument/2006/relationships/slide" Target="slide8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8088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ans of Georg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Jorge Luis Moretti Gonzales Orbego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5-Point Star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74680" y="-274680"/>
            <a:ext cx="2914560" cy="2676600"/>
          </a:xfrm>
          <a:prstGeom prst="rect">
            <a:avLst/>
          </a:prstGeom>
          <a:ln w="0">
            <a:noFill/>
          </a:ln>
        </p:spPr>
      </p:pic>
      <p:pic>
        <p:nvPicPr>
          <p:cNvPr id="44" name="Lightning Bolt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998800" y="-128520"/>
            <a:ext cx="6273720" cy="3610080"/>
          </a:xfrm>
          <a:prstGeom prst="rect">
            <a:avLst/>
          </a:prstGeom>
          <a:ln w="0">
            <a:noFill/>
          </a:ln>
        </p:spPr>
      </p:pic>
      <p:pic>
        <p:nvPicPr>
          <p:cNvPr id="45" name="Sun 5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-128520" y="3376440"/>
            <a:ext cx="3762360" cy="3610080"/>
          </a:xfrm>
          <a:prstGeom prst="rect">
            <a:avLst/>
          </a:prstGeom>
          <a:ln w="0">
            <a:noFill/>
          </a:ln>
        </p:spPr>
      </p:pic>
      <p:pic>
        <p:nvPicPr>
          <p:cNvPr id="46" name="Explosion 2 7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52920" y="3865680"/>
            <a:ext cx="48402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http://thedarkblade.com/wp-content/uploads/atlatl-throw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l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the earliest known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named the Paleolithic or Old Stone Age because the tools &amp; weapons were made of st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reated a tool called the atlatl – a smooth stone s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tlatl was used for a long time af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they’re gen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>
            <a:hlinkClick r:id="rId2" action="ppaction://hlinksldjump"/>
          </p:cNvPr>
          <p:cNvSpPr/>
          <p:nvPr/>
        </p:nvSpPr>
        <p:spPr>
          <a:xfrm>
            <a:off x="7772400" y="5334120"/>
            <a:ext cx="11430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sosceles Triangle 4"/>
          <p:cNvSpPr/>
          <p:nvPr/>
        </p:nvSpPr>
        <p:spPr>
          <a:xfrm>
            <a:off x="7772400" y="4800600"/>
            <a:ext cx="114300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a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>
            <a:hlinkClick r:id="rId1" action="ppaction://hlinksldjump"/>
          </p:cNvPr>
          <p:cNvSpPr/>
          <p:nvPr/>
        </p:nvSpPr>
        <p:spPr>
          <a:xfrm>
            <a:off x="2514600" y="228600"/>
            <a:ext cx="1219320" cy="236232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>
            <a:hlinkClick r:id="rId2" action="ppaction://hlinksldjump"/>
          </p:cNvPr>
          <p:cNvSpPr/>
          <p:nvPr/>
        </p:nvSpPr>
        <p:spPr>
          <a:xfrm>
            <a:off x="5410080" y="228600"/>
            <a:ext cx="1219320" cy="236232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oon 5">
            <a:hlinkClick r:id="rId3" action="ppaction://hlinksldjump"/>
          </p:cNvPr>
          <p:cNvSpPr/>
          <p:nvPr/>
        </p:nvSpPr>
        <p:spPr>
          <a:xfrm rot="16200000">
            <a:off x="3200400" y="3047760"/>
            <a:ext cx="2590920" cy="380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972" y="1856"/>
                  <a:pt x="10343" y="5080"/>
                  <a:pt x="10343" y="10800"/>
                </a:cubicBezTo>
                <a:cubicBezTo>
                  <a:pt x="10343" y="16520"/>
                  <a:pt x="15972" y="197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276720" y="5257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sosceles Triangle 7"/>
          <p:cNvSpPr/>
          <p:nvPr/>
        </p:nvSpPr>
        <p:spPr>
          <a:xfrm>
            <a:off x="7772400" y="4800600"/>
            <a:ext cx="114300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>
            <a:hlinkClick r:id="rId4" action="ppaction://hlinksldjump"/>
          </p:cNvPr>
          <p:cNvSpPr/>
          <p:nvPr/>
        </p:nvSpPr>
        <p:spPr>
          <a:xfrm>
            <a:off x="7772400" y="5334120"/>
            <a:ext cx="11430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http://www.texasbeyondhistory.net/pecos/images/M2-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d from 8000 B.C – 5000B.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started off hunting giant animals then ended up hunting smaller anim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they started hunting smaller animals, they created smaller weap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>
            <a:hlinkClick r:id="rId2" action="ppaction://hlinksldjump"/>
          </p:cNvPr>
          <p:cNvSpPr/>
          <p:nvPr/>
        </p:nvSpPr>
        <p:spPr>
          <a:xfrm>
            <a:off x="7772400" y="5334120"/>
            <a:ext cx="11430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sosceles Triangle 4"/>
          <p:cNvSpPr/>
          <p:nvPr/>
        </p:nvSpPr>
        <p:spPr>
          <a:xfrm>
            <a:off x="7772400" y="4800600"/>
            <a:ext cx="114300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http://www.virtualmuseum.ca/Exhibitions/Spirits/Images/Timeline/people80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d from 5000 B.C – 4000 B.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this was after the ice age, the climate was warmer and dr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the water receded which allowed them to invent fis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ddition because of this they didn’t move around as mu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>
            <a:hlinkClick r:id="rId2" action="ppaction://hlinksldjump"/>
          </p:cNvPr>
          <p:cNvSpPr/>
          <p:nvPr/>
        </p:nvSpPr>
        <p:spPr>
          <a:xfrm>
            <a:off x="7772400" y="5334120"/>
            <a:ext cx="11430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sosceles Triangle 4"/>
          <p:cNvSpPr/>
          <p:nvPr/>
        </p:nvSpPr>
        <p:spPr>
          <a:xfrm>
            <a:off x="7772400" y="4800600"/>
            <a:ext cx="114300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http://t3.gstatic.com/images?q=tbn:CWUjOxVeJqAYoM:http://www.virtualmuseum.ca/Exhibitions/Spirits/Images/Timeline/people45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d from 4000 B.C – 1000 B.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eople started creating permeate settl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lso created two things a grooved axe to clear trees an bushes, &amp; they created a clay container for storing cooking and to serve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7772400" y="5334120"/>
            <a:ext cx="11430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sosceles Triangle 4"/>
          <p:cNvSpPr/>
          <p:nvPr/>
        </p:nvSpPr>
        <p:spPr>
          <a:xfrm>
            <a:off x="7772400" y="4800600"/>
            <a:ext cx="114300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http://theforts.org/mod/cms/images/indian_lodge.jpg"/>
          <p:cNvPicPr/>
          <p:nvPr/>
        </p:nvPicPr>
        <p:blipFill>
          <a:blip r:embed="rId1"/>
          <a:stretch/>
        </p:blipFill>
        <p:spPr>
          <a:xfrm>
            <a:off x="0" y="-136440"/>
            <a:ext cx="9175680" cy="6994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ived from 1000 B.C – 1000 A.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se nomadic herders began to form tribes at this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so they were creators of religions, the bow &amp; arrow, and far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 addition to religion they created large cone shaped burial mounds for the d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772400" y="5334120"/>
            <a:ext cx="11430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sosceles Triangle 4"/>
          <p:cNvSpPr/>
          <p:nvPr/>
        </p:nvSpPr>
        <p:spPr>
          <a:xfrm>
            <a:off x="7772400" y="4800600"/>
            <a:ext cx="114300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http://www.visitbaycity.org/history/cvb/Bart1Karankawa%20Indi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sissipp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d from 700 A.D – 1600 A.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got their name because they were located at the Mississippi r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772400" y="5334120"/>
            <a:ext cx="11430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sosceles Triangle 4"/>
          <p:cNvSpPr/>
          <p:nvPr/>
        </p:nvSpPr>
        <p:spPr>
          <a:xfrm>
            <a:off x="7772400" y="4800600"/>
            <a:ext cx="114300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21:40Z</dcterms:created>
  <dc:creator>200178858</dc:creator>
  <dc:description/>
  <dc:language>en-US</dc:language>
  <cp:lastModifiedBy>200178858</cp:lastModifiedBy>
  <dcterms:modified xsi:type="dcterms:W3CDTF">2010-09-16T13:29:21Z</dcterms:modified>
  <cp:revision>8</cp:revision>
  <dc:subject/>
  <dc:title>Indians of Georgia</dc:title>
</cp:coreProperties>
</file>